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F1E2-4662-4D01-8347-E4E045DC3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06C0-4427-4FEF-A0D5-9219F4DFE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F82-920B-4201-BAD5-E91BF076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BA4-1112-4E8A-810E-E913388D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597-A5DE-4E0A-AA61-8DAB5B93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8FB-35FB-4699-B187-2C3915BC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E8E6-EBC6-4E1A-B919-24A8B32A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AC5-203A-40BC-B0F5-216B1B23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70D-D837-4CC7-80EB-B50CF851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3B5-C2D5-4A47-9FD1-ECCA9997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398-A3CE-48EF-8525-2362D6F0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453-6E2C-4FF4-86EE-75BC14D0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9832-DA6F-477E-B5C6-81893485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919-9E95-4F99-A02A-5A02B4DC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A3AB-17A6-432B-B6F4-D43AC504F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dc.uwo.ca/writing/images/001.jpg" TargetMode="External"/><Relationship Id="rId2" Type="http://schemas.openxmlformats.org/officeDocument/2006/relationships/hyperlink" Target="http://guestworkerfraud.com/data.jpg" TargetMode="External"/><Relationship Id="rId3" Type="http://schemas.openxmlformats.org/officeDocument/2006/relationships/hyperlink" Target="http://farm4.static.flickr.com/3254/2941682132_17175294dc.jpg" TargetMode="External"/><Relationship Id="rId4" Type="http://schemas.openxmlformats.org/officeDocument/2006/relationships/hyperlink" Target="http://atlantisbyelectionsward32.contributetochange.org.za/files/2009/10/Cam-pics-4-367.jpg" TargetMode="External"/><Relationship Id="rId5" Type="http://schemas.openxmlformats.org/officeDocument/2006/relationships/hyperlink" Target="http://www.cringel.com/files/images/adia-2007-07-02-DSC-8687-two-ladies-holding-hands-on-a-street-in-malaysia-kuala-lumpur-cringel.com.jpg" TargetMode="External"/><Relationship Id="rId6" Type="http://schemas.openxmlformats.org/officeDocument/2006/relationships/hyperlink" Target="http://www.ssa.gov/international/world%20hands.jpg" TargetMode="External"/><Relationship Id="rId7" Type="http://schemas.openxmlformats.org/officeDocument/2006/relationships/hyperlink" Target="http://www.companionsinhope.com/images_global/seedling2.jpg" TargetMode="External"/><Relationship Id="rId8" Type="http://schemas.openxmlformats.org/officeDocument/2006/relationships/hyperlink" Target="http://www.discovertheworld.org/dtw-images/photos/b-holding_hands.jpg" TargetMode="External"/><Relationship Id="rId9" Type="http://schemas.openxmlformats.org/officeDocument/2006/relationships/hyperlink" Target="http://www.fammed.wisc.edu/files/images/feature_graphics/featured-others08.jpg" TargetMode="External"/><Relationship Id="rId10" Type="http://schemas.openxmlformats.org/officeDocument/2006/relationships/hyperlink" Target="http://www.digitalworldtokyo.com/entryimages/2007/05/070531_Kobe_earthquake.jpg" TargetMode="External"/><Relationship Id="rId11" Type="http://schemas.openxmlformats.org/officeDocument/2006/relationships/hyperlink" Target="http://faithsa.org/images/FatherSon.jpg" TargetMode="Externa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resentationzen.com/presentationzen/images/2007/08/14/generosity.jpg" TargetMode="External"/><Relationship Id="rId2" Type="http://schemas.openxmlformats.org/officeDocument/2006/relationships/hyperlink" Target="http://www.dailywordofgodgroup.com/images/helping-others.jpg" TargetMode="External"/><Relationship Id="rId3" Type="http://schemas.openxmlformats.org/officeDocument/2006/relationships/hyperlink" Target="http://www.taraburner.com/blog/wp-content/uploads/2009/09/helpinghands.jpg" TargetMode="External"/><Relationship Id="rId4" Type="http://schemas.openxmlformats.org/officeDocument/2006/relationships/hyperlink" Target="http://www.taraburner.com/blog/wp-content/uploads/2009/09/helpinghands.jpg" TargetMode="External"/><Relationship Id="rId5" Type="http://schemas.openxmlformats.org/officeDocument/2006/relationships/hyperlink" Target="http://blogit.realwire.com/media/Help%20key.JPG" TargetMode="External"/><Relationship Id="rId6" Type="http://schemas.openxmlformats.org/officeDocument/2006/relationships/hyperlink" Target="http://www.theway247.com/CIA_files/helping%20others.jpg" TargetMode="External"/><Relationship Id="rId7" Type="http://schemas.openxmlformats.org/officeDocument/2006/relationships/hyperlink" Target="http://www.godsmarketplacega.com/images/helping.jpg" TargetMode="External"/><Relationship Id="rId8" Type="http://schemas.openxmlformats.org/officeDocument/2006/relationships/hyperlink" Target="http://tonyjimenezfoundation.org/assets/images/a_helping_others.gif" TargetMode="External"/><Relationship Id="rId9" Type="http://schemas.openxmlformats.org/officeDocument/2006/relationships/hyperlink" Target="http://www.antiochglobaloutreach.net/AGO_LOGO2.jpg" TargetMode="External"/><Relationship Id="rId10" Type="http://schemas.openxmlformats.org/officeDocument/2006/relationships/hyperlink" Target="http://www.csuci.edu/news/publication/current/2006-fall/images/helping_humanity.gif" TargetMode="External"/><Relationship Id="rId11" Type="http://schemas.openxmlformats.org/officeDocument/2006/relationships/hyperlink" Target="http://www.learningfromlyrics.org/bystander_files/image002.jpg" TargetMode="External"/><Relationship Id="rId12" Type="http://schemas.openxmlformats.org/officeDocument/2006/relationships/hyperlink" Target="http://www.capapgpc.org/images/helping-others.jpg" TargetMode="External"/><Relationship Id="rId13" Type="http://schemas.openxmlformats.org/officeDocument/2006/relationships/hyperlink" Target="http://www.nysut.org/images/content/rfk_children_480_04.jpg" TargetMode="External"/><Relationship Id="rId14" Type="http://schemas.openxmlformats.org/officeDocument/2006/relationships/hyperlink" Target="http://global-gateways.com/vision.jpg" TargetMode="External"/><Relationship Id="rId15" Type="http://schemas.openxmlformats.org/officeDocument/2006/relationships/hyperlink" Target="http://webapps2.ucalgary.ca/~estrat/uofczine/wp-content/uploads/2008/12/localcharities.jpg" TargetMode="External"/><Relationship Id="rId16" Type="http://schemas.openxmlformats.org/officeDocument/2006/relationships/hyperlink" Target="http://www.bethanypcusa.org/images/colorful_hands.gif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ties Helping Each O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Kiley Dindi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blogit.realwire.com/media/Help%20key.JPG"/>
          <p:cNvPicPr/>
          <p:nvPr/>
        </p:nvPicPr>
        <p:blipFill>
          <a:blip r:embed="rId1"/>
          <a:srcRect l="0" t="0" r="0" b="3681"/>
          <a:stretch/>
        </p:blipFill>
        <p:spPr>
          <a:xfrm>
            <a:off x="-380880" y="-304920"/>
            <a:ext cx="9524880" cy="7391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057400" y="1905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Helping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048120" y="3429000"/>
            <a:ext cx="3962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429000" y="3276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Kiley Dind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capapgpc.org/images/helping-others.jpg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soundwaves.usgs.gov/2009/03/Mana1LG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nysut.org/images/content/rfk_children_480_04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learningfromlyrics.org/bystander_files/image002.jpg"/>
          <p:cNvPicPr/>
          <p:nvPr/>
        </p:nvPicPr>
        <p:blipFill>
          <a:blip r:embed="rId1"/>
          <a:stretch/>
        </p:blipFill>
        <p:spPr>
          <a:xfrm>
            <a:off x="0" y="0"/>
            <a:ext cx="9158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ebapps2.ucalgary.ca/~estrat/uofczine/wp-content/uploads/2008/12/localcharities.jpg"/>
          <p:cNvPicPr/>
          <p:nvPr/>
        </p:nvPicPr>
        <p:blipFill>
          <a:blip r:embed="rId1"/>
          <a:stretch/>
        </p:blipFill>
        <p:spPr>
          <a:xfrm>
            <a:off x="63360" y="-136440"/>
            <a:ext cx="81727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global-gateways.com/vision.jpg"/>
          <p:cNvPicPr/>
          <p:nvPr/>
        </p:nvPicPr>
        <p:blipFill>
          <a:blip r:embed="rId1"/>
          <a:stretch/>
        </p:blipFill>
        <p:spPr>
          <a:xfrm>
            <a:off x="0" y="0"/>
            <a:ext cx="85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http://www.cringel.com/files/images/adia-2007-07-02-DSC-8687-two-ladies-holding-hands-on-a-street-in-malaysia-kuala-lumpur-cringel.com.jpg"/>
          <p:cNvPicPr/>
          <p:nvPr/>
        </p:nvPicPr>
        <p:blipFill>
          <a:blip r:embed="rId1"/>
          <a:stretch/>
        </p:blipFill>
        <p:spPr>
          <a:xfrm>
            <a:off x="0" y="0"/>
            <a:ext cx="4419720" cy="392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ssa.gov/international/world%20hands.jpg"/>
          <p:cNvPicPr/>
          <p:nvPr/>
        </p:nvPicPr>
        <p:blipFill>
          <a:blip r:embed="rId2"/>
          <a:stretch/>
        </p:blipFill>
        <p:spPr>
          <a:xfrm>
            <a:off x="4572000" y="3733920"/>
            <a:ext cx="4048200" cy="283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www.companionsinhope.com/images_global/seedling2.jpg"/>
          <p:cNvPicPr/>
          <p:nvPr/>
        </p:nvPicPr>
        <p:blipFill>
          <a:blip r:embed="rId3"/>
          <a:stretch/>
        </p:blipFill>
        <p:spPr>
          <a:xfrm>
            <a:off x="5057640" y="104760"/>
            <a:ext cx="34005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static.guim.co.uk/sys-images/Guardian/Pix/contributor/2010/1/14/1263488479383/Haiti-quake-aid-boy-recei-001.jpg"/>
          <p:cNvPicPr/>
          <p:nvPr/>
        </p:nvPicPr>
        <p:blipFill>
          <a:blip r:embed="rId1"/>
          <a:stretch/>
        </p:blipFill>
        <p:spPr>
          <a:xfrm>
            <a:off x="254160" y="762120"/>
            <a:ext cx="8889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www.digitalworldtokyo.com/entryimages/2007/05/070531_Kobe_earthquak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1f1f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faithsa.org/images/FatherSon.jpg"/>
          <p:cNvPicPr/>
          <p:nvPr/>
        </p:nvPicPr>
        <p:blipFill>
          <a:blip r:embed="rId1"/>
          <a:stretch/>
        </p:blipFill>
        <p:spPr>
          <a:xfrm>
            <a:off x="0" y="0"/>
            <a:ext cx="46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guestworkerfraud.com/data.jpg"/>
          <p:cNvPicPr/>
          <p:nvPr/>
        </p:nvPicPr>
        <p:blipFill>
          <a:blip r:embed="rId1"/>
          <a:srcRect l="6560" t="6557" r="6560" b="14756"/>
          <a:stretch/>
        </p:blipFill>
        <p:spPr>
          <a:xfrm>
            <a:off x="0" y="0"/>
            <a:ext cx="403848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farm4.static.flickr.com/3254/2941682132_17175294dc.jpg"/>
          <p:cNvPicPr/>
          <p:nvPr/>
        </p:nvPicPr>
        <p:blipFill>
          <a:blip r:embed="rId2"/>
          <a:srcRect l="34429" t="32240" r="27870" b="32792"/>
          <a:stretch/>
        </p:blipFill>
        <p:spPr>
          <a:xfrm>
            <a:off x="4876920" y="685800"/>
            <a:ext cx="4267080" cy="2968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atlantisbyelectionsward32.contributetochange.org.za/files/2009/10/Cam-pics-4-367.jpg"/>
          <p:cNvPicPr/>
          <p:nvPr/>
        </p:nvPicPr>
        <p:blipFill>
          <a:blip r:embed="rId3"/>
          <a:stretch/>
        </p:blipFill>
        <p:spPr>
          <a:xfrm>
            <a:off x="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7621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sdc.uwo.ca/writing/images/00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520" y="1066680"/>
            <a:ext cx="308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guestworkerfraud.com/dat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4290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144792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arm4.static.flickr.com/3254/2941682132_17175294dc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82880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atlantisbyelectionsward32.contributetochange.org.za/files/2009/10/Cam-pics-4-36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22096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cringel.com/files/images/adia-2007-07-02-DSC-8687-two-ladies-holding-hands-on-a-street-in-malaysia-kuala-lumpur-cringel.co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28195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ssa.gov/international/world%20h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20040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companionsinhope.com/images_global/seedling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0" y="358128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discovertheworld.org/dtw-images/photos/b-holding_h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39625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www.fammed.wisc.edu/files/images/feature_graphics/featured-others0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0" y="42670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digitalworldtokyo.com/entryimages/2007/05/070531_Kobe_earthquak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760" y="4572000"/>
            <a:ext cx="28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faithsa.org/images/FatherS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1371600"/>
            <a:ext cx="57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resentationzen.com/presentationzen/images/2007/08/14/generosit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10666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ailywordofgodgroup.com/images/helping-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259092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taraburner.com/blog/wp-content/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oundwaves.usgs.gov/2009/03/Mana1LG.jpgloads/2009/09/helpinghand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457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blogit.realwire.com/media/Help%20ke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19810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way247.com/CIA_files/helping%20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762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godsmarketplacega.com/images/helpin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2286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tonyjimenezfoundation.org/assets/images/a_helping_other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16765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antiochglobaloutreach.net/AGO_LOGO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327672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csuci.edu/news/publication/current/2006-fall/images/helping_humanity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3581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learningfromlyrics.org/bystander_files/image00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3886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capapgpc.org/images/helping-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4191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nysut.org/images/content/rfk_children_480_0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4419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global-gateways.com/vis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0" y="4724280"/>
            <a:ext cx="640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ebapps2.ucalgary.ca/~estrat/uofczine/wp-content/uploads/2008/12/localchariti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0" y="51055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ethanypcusa.org/images/colorful_hand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0" y="5410080"/>
            <a:ext cx="975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ophcommunity.oph.gov.au/cfs-filesystemfile.ashx/__key/CommunityServer.Components.ImageFileViewer/CommunityServer.Components.UserFiles.00.00.00.24.18/holding-hands3.jpg_2D00_600x45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0" y="228600"/>
            <a:ext cx="571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us.123rf.com/400wm/400/400/iofoto/iofoto0802/iofoto080200726/261689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0" y="609588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lv.zcache.com/cute_penguins_holding_hands_photosculpture-p153884523996977878qif5_21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0" y="6400800"/>
            <a:ext cx="716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ronaldhousedurham.org/files/images/helping-a-military-family-in-need/help-militar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www.sdc.uwo.ca/writing/images/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taraburner.com/blog/wp-content/uploads/2009/09/helpinghands.jpg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dailywordofgodgroup.com/images/helping-others.jpg"/>
          <p:cNvPicPr/>
          <p:nvPr/>
        </p:nvPicPr>
        <p:blipFill>
          <a:blip r:embed="rId1"/>
          <a:stretch/>
        </p:blipFill>
        <p:spPr>
          <a:xfrm>
            <a:off x="0" y="0"/>
            <a:ext cx="46036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theway247.com/CIA_files/helping%20others.jpg"/>
          <p:cNvPicPr/>
          <p:nvPr/>
        </p:nvPicPr>
        <p:blipFill>
          <a:blip r:embed="rId2"/>
          <a:srcRect l="9141" t="0" r="21144" b="-56594"/>
          <a:stretch/>
        </p:blipFill>
        <p:spPr>
          <a:xfrm>
            <a:off x="4495680" y="1371600"/>
            <a:ext cx="4648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presentationzen.com/presentationzen/images/2007/08/14/generosi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godsmarketplacega.com/images/helping.jpg"/>
          <p:cNvPicPr/>
          <p:nvPr/>
        </p:nvPicPr>
        <p:blipFill>
          <a:blip r:embed="rId1"/>
          <a:stretch/>
        </p:blipFill>
        <p:spPr>
          <a:xfrm>
            <a:off x="0" y="0"/>
            <a:ext cx="3571920" cy="538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tonyjimenezfoundation.org/assets/images/a_helping_others.gif"/>
          <p:cNvPicPr/>
          <p:nvPr/>
        </p:nvPicPr>
        <p:blipFill>
          <a:blip r:embed="rId2"/>
          <a:stretch/>
        </p:blipFill>
        <p:spPr>
          <a:xfrm>
            <a:off x="3962520" y="1600200"/>
            <a:ext cx="46195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csuci.edu/news/publication/current/2006-fall/images/helping_humanity.gif"/>
          <p:cNvPicPr/>
          <p:nvPr/>
        </p:nvPicPr>
        <p:blipFill>
          <a:blip r:embed="rId1"/>
          <a:stretch/>
        </p:blipFill>
        <p:spPr>
          <a:xfrm>
            <a:off x="0" y="0"/>
            <a:ext cx="9148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antiochglobaloutreach.net/AGO_LOGO2.jpg"/>
          <p:cNvPicPr/>
          <p:nvPr/>
        </p:nvPicPr>
        <p:blipFill>
          <a:blip r:embed="rId1"/>
          <a:stretch/>
        </p:blipFill>
        <p:spPr>
          <a:xfrm>
            <a:off x="1447920" y="380880"/>
            <a:ext cx="6838920" cy="5591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828800" y="16002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438280" y="4572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209680" y="6858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 rot="3574800">
            <a:off x="2957040" y="3366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 rot="3574800">
            <a:off x="1966680" y="117432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 rot="4945800">
            <a:off x="3736800" y="2844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 rot="5997600">
            <a:off x="4736880" y="4896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 rot="1365000">
            <a:off x="5443200" y="90000"/>
            <a:ext cx="68580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 rot="8253000">
            <a:off x="5984280" y="7776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 rot="20920800">
            <a:off x="6727680" y="226692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 rot="20286600">
            <a:off x="6575040" y="153684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0:36:32Z</dcterms:created>
  <dc:creator>ITSUser</dc:creator>
  <dc:description/>
  <dc:language>en-US</dc:language>
  <cp:lastModifiedBy>ITSUser</cp:lastModifiedBy>
  <dcterms:modified xsi:type="dcterms:W3CDTF">2010-01-28T17:53:12Z</dcterms:modified>
  <cp:revision>13</cp:revision>
  <dc:subject/>
  <dc:title>Communities Helping Each Other</dc:title>
</cp:coreProperties>
</file>